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135-4F72-42E1-87FF-412FF57F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03D-0FA8-4A8D-A830-14C0F1F9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9D9EA-99D2-4132-9C7A-A3526D93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BE864-DAFD-4EF0-93D4-28C08D74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EB97D-7083-472F-8412-296D9CA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795CA-0066-44B8-A11E-88F5338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C0013-0214-4F7C-BD0B-559E992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28789-41C6-427D-95F4-D65F00D6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6CED5-DE08-4EBA-8FC4-41D98531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8B05F-3B6B-44E1-9A6A-C1506628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FF230-2277-400D-9069-35D36DB8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6A06A-BD5B-4B90-B873-FF4582D5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926-A667-4288-AA22-4C93674B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54BBE-32B9-4DFB-9058-9E012448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4D93C-C361-4934-A9C5-436F9E6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112BA-64E2-4BE6-8C0D-F00FC15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D8D07-1448-4B09-A45D-CCC5C5A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4FD5E-EFA8-4D2D-B891-DC8529C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29862-A857-4CF4-B6F7-03DAD377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4EB85-27A7-4C75-B938-728FD95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15BEF-28C6-4571-B01E-F01DD08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E504E-F116-41CB-8103-D3A5AA5E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DACDB-282B-46A4-BFB2-700F0293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BC7-F585-4761-A120-12A36993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05388-95A6-4EA9-8EA0-D1513ABB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FA36E-BCFD-4C9A-A607-B688341A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9F378-D1BE-44B9-AECE-19202AF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BFF7B-38B2-44D8-A6D7-2826425E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191B4-60AC-41C6-B24A-6AF30F7F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51473-5C4E-4CE8-82B5-A151EC6F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1CD3B-EDDA-4D5F-B313-D39A0DE4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6D5C9-1113-4FEE-89FC-6891A96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81C88-C409-486C-B3B7-F6881E5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C2C36-1DB1-4069-8530-0C38A33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1646-3987-4C2A-8BCD-05BFA000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7D428-7A26-4D11-A497-692F9CC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FD2FC-F46C-4195-810C-3B1C6C6B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8090C-8F7F-4637-ADAC-EE10DF1C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DA0FD-C6FA-47CA-B7FF-8E4D39E1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B7D9E-EB59-41C1-AE69-2D75D6E0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C6D46-9756-4A62-AC69-C11AC1C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581CF-6D43-4105-AFD8-312CD87E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056E1-4467-4230-B949-DE9FCB5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53AEE-107B-48EA-844D-58E737D7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80C92-F6BB-466C-8BD0-50951FB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1B68-0CA0-47E9-B912-BD2F36FB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C156B-16CE-48AF-8224-DF053E4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7C7A-E30F-4E62-9F34-0EED577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16535-63B5-49AB-9879-DBA70A9F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577F3-CD65-44AF-AE4D-3FAD86DA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15A63-C0A9-4086-8407-657360D1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3836-5087-4EF5-8508-B06C53E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247F-37B4-4723-A0FE-6F41A153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AE58-E4CB-4753-AA62-A9A3769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7438-15BD-44A3-8C6A-5DF12A0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B22F-C3F4-420E-A9B5-551FE528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824-B3A5-456C-BEDC-35FC8991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3053-61F0-4CA6-AFFC-E477B97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D1C1-744D-4ECA-9DCC-F435B26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20DB-A4A2-4E0E-88EE-0774E748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9C4D-D33B-43F3-8910-E98F5FD8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6801-FE9C-4EAF-A2CD-53684A71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E4B0-432E-4F21-B8FE-E91B8442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C1E4-D5BE-4931-9A56-E30CFA9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5CE6-5CC3-4412-94B9-99BCF1B1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2575-8575-4564-8DEF-7F258645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3F0D-0C3C-4B99-A653-AD5CB0C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869-2167-45FE-A4A8-A38763CB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A4C2-1290-429D-A7FC-2C7E1563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CE6F-BF2C-42BF-81F5-E9269F48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4994-B067-417D-ABEB-12351E3F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9E35-F353-4CAB-97BC-B3A05325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AC13-5527-4061-96C9-C529B510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14C5-5D2F-4733-BE41-5C63F8BE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08B1-E7F0-436C-B3B1-1B550364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875C-C634-4B74-8800-7CD895F2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E71F-50A3-4AF7-A6EE-7D39928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1E34-1550-4796-A611-C1B52DF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7B1-774D-4632-B27F-21FD7469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3F6B-FE40-405E-91BD-6B040605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E080-6335-4E19-876D-6325ACC1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5AAE-276C-4855-AD8A-3C5F4C8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B9A9-D5FE-4875-B776-C2A542D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4964-D0D6-4CAA-B5A3-2AAC08B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43EA-D988-4754-B2FC-8FE4376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566F-2C15-4E67-85A1-2D3C619E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E5FB-E519-45A1-8612-FD8C0343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1C3B3-6ED3-4607-9B5C-CBC78F24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960B-6A4B-4F68-AA51-F0245D9B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60C-D62F-4009-B20B-0B073C6E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EB714-16BF-425F-832C-FE71C9F6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571A-1453-4FA8-86EC-A02342BD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720D-5710-4857-9631-15FD266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D4A7-B27C-436B-BC3E-363DABA3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AE892-F739-4C72-98AD-AEEA4165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39D3-14DB-4D26-892D-6EAD0A62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E097-25C9-4630-B045-80A3A98B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92E6E-CDA0-4676-A48E-6CF75F5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52F47-5E24-43CA-B204-E4E03D51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9041-C965-40B0-85AD-6A5E46BC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B95-954D-4D2D-8433-5CC691E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68AF-A4CB-4458-8316-B834A18A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BE586-C557-4A23-995C-48556FBD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407F8-BD88-4AF4-835E-E1C2C3D8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11AF-0C02-40DF-9B3D-D9098AB0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641D-7778-48D2-BA8E-CE94E9D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C7F79-919A-4D22-AD73-F046B0EC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263F2-72FA-48A5-B0B9-77894F55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8E8F-3AF1-48BC-8C5F-BDE12D12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35D7-F660-442E-8493-C5BA0DC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93F44-F537-48C7-A74B-C2C5D81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156-9C44-4523-825C-ACEB1CE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5E45-8DFD-4850-AF6B-D607B3B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0A7A-30D7-4EC6-B90E-297EC245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1FB70-F274-4888-86EC-34923E52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AE24B-5061-40ED-B3AB-B8BDBAA3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9A9BC-DF2B-48A0-AE89-FC13361D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0756-8F4B-4137-AE20-B34F95E5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E4924-BF42-4D50-8EE8-FACC59BC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9DCBD-F222-469E-8048-BC3FE8EB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39DC-B314-4D62-BADD-4FFCAE3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26C2-DB02-4FBB-A458-7D4E7174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04E-3F4C-4FF1-95DE-4BBAD08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CAEEA-6B8F-4CA7-8DC0-391B797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C712E-D56B-41A0-A965-2F0A3DB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3BD5-79E0-498A-B3B9-7C41235C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6358-A552-43C7-BB72-F86ED81D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789E-B310-49DE-8EB8-17AF7559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0D88A-1806-4CFB-A902-AD2176CC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DEAE8-203F-4DB1-A0CE-9750FD2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E674C-C454-40F0-8DE4-E61BDD16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8317-97F2-421F-AEA0-35D70B5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38D6-DC80-4AB6-B2C5-4F8BAE24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EA8-8C06-48A6-A798-D1515E8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E0F6-24D7-4AC7-8BD8-A1B8868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F1569-1B33-4B5A-A471-201FFF0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A4CF-F277-4B7A-8E18-8F6F2222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40B4-4613-4389-9697-83B1935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87A39-EAB8-416F-8E51-37913A44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1E24C-8DCA-4D65-869C-8A2CA09B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66568-078F-48B7-A48A-FAE71AD0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1461E-6967-4B73-BD19-70183CDB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CC20A-8E33-45DA-B5E6-8AC5995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BC266-2CD9-4D22-B094-D3075B9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911-30E9-4B4D-992A-AC01E213FD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3F6D-FE7C-47F0-8E91-7CE1920F65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8AB2-4A0E-4069-86A3-EC7D72E8C4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98E9-1401-4305-B57A-78A68AD206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D829-900A-4C5E-B101-373292A8F5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5C15-598D-4E18-B0B5-C1B3E398CE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D74-CACF-4878-91F3-C11314A69B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DDCC-7D13-4788-885E-3E687A8EEC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0FE-D093-404F-8D75-198B3F2CA5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69C-DCD9-4BFA-9825-9C4AD180DD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121-FB1A-4290-BDB0-6D6E5DA9CB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4BE9-5FF6-474A-ACAB-34B515002D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 Boh tvorcom sveta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esmír zvest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slávy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v ňom svoj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ým kraľ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tvorcom sveta j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o tom premýšľa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ôkol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dn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chválu vzdať mu má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vďačný tvorstva hl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, neba kruh len Boží Du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odial krásou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tvorcom svet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ho slávou b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ustý kraj na vábny r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krásy rozkvit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slávu marí pád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príde čas, keď Vládca z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ár nových krás mu 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tvorcom sveta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treba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on len sám je slávy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ba Majestá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9:00:34Z</dcterms:modified>
  <cp:revision>30</cp:revision>
  <dc:subject/>
  <dc:title>Je veľký náš Pán, on slávy je Kráľ Nech do všetkých strán  spev vrúcnych znie chvál.</dc:title>
</cp:coreProperties>
</file>